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8180-AEE8-46E7-926F-DF71C644C5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45DB-00BE-4EF9-AB11-8009BDC12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1E7D-6B8C-43A7-8389-5C0F4A77C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3EC3-73EC-40D3-A5A3-9BE7ED40A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422A-C848-40D0-95A4-1C9B2D58D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D015-7816-45E7-989C-C9446E181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301D-0E1E-4ED2-8648-708EEEC36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E699-D8FD-46C0-AC64-6266145CD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D956-F1C7-477F-BD6E-87929263E5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22D6-49EA-4556-AD49-EDEAD97AE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CFCD-7E03-4381-A297-EFC864724A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8A4B-6AC7-4FE3-87D2-8C7C0DBFD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A7B5-1A6D-4D81-B124-817E83E133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81DE-8D6E-4C5D-9EC1-B7F1BB6A9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4FF2-5532-46EB-BFF1-E4D640C7D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F280-F421-42CD-86FF-9E49E2FBA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1614-EFBF-4968-B1BC-C9489194EF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533E-A707-4579-A377-2FC230074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8F65-CA20-4902-996D-183D0571FA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02E2-0411-4619-9660-1B56974B53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12E4-02E8-45C2-A1B3-5F2C818E97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E2FE-F47F-465C-A2CE-3FF6F1A9E1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F970-AA7C-4A11-A15F-940B34892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5B0A-37D0-4830-A59F-8819653BA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28A6-5D40-43CE-A988-CA9920874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4BA0-D619-4BEE-98AA-BC335469E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920-ACD6-43CB-A545-2075FEBD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540-4F87-403A-B5E4-F12C80F7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E82-7C6C-4C1A-94E6-69E6717C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481-CD40-4A98-BBB8-0B85F4A4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CD4C-80ED-457E-9DB1-6FA9A222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8EE7-7832-4096-A3AA-A3B8828D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11FB-B02C-4318-8AA5-7DDDC1BC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291A-A4CA-401B-9E27-5F357F1A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2EC1-A179-4B29-9B04-6693899B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7A84-74D2-414F-9039-F796B64D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3FBC-4162-4524-8705-BA2ED6E9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BC4-F00A-4437-9B83-2955C13F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6AF9-8E27-4BE0-9B55-FEFB6EDA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53CD-D97D-4D29-9707-BB1864AB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01E4-AC39-4F92-BCA3-FC242192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6939-4ABE-44E5-B06C-E3F796B1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DFDF-EAA2-47D8-8FEA-A0864444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E8AA-4ECB-4888-BFA7-F5607BE1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9CC0-C284-447A-AA77-75A17F6F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8F29-62AE-48B5-8CEC-EC8EF62C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DDF4-0251-47CF-AA08-49732665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F8103-C838-4336-AA1F-7D10B738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03A-6D0A-4D56-A494-48C68D70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589FF-4772-46F4-A670-9CFA91CD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06147-A8A4-4743-A3E0-232B0747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2571-409D-46BA-ADC3-5DB5B6D2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499D-3D93-4DDA-82FC-D2C211ED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B53F-040E-4E8D-BE13-440A4122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2227-393E-467B-90F2-7C14CD85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17FE-EA65-4F1D-AC0B-EF2112E9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D696-4F7F-491F-9539-54AEF1C5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AEBB-2EDE-4B4C-A636-8DD92D02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4CEB5-7823-48F8-9BAA-34934A15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EE2-4018-4AE7-8CE9-8CD9F1B6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64139-3CBD-4857-A4AC-E188523F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042D7-9301-41A9-BF20-5A21F1D6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568F2-82DA-481B-B4D5-4421A59E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8CF8-D20F-4C9A-8F61-E6D41CC1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0B7E5-EEC5-412A-BBE2-B9486A20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077F-7779-4FF4-8CB7-CDFC0681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236DA-D7ED-422C-BB3F-DCB577FD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5131-C446-4672-B33A-8A27B2FC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3AE5E-32C2-4281-8674-832D1BEB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4F0FE-0FBF-45B7-A6C1-86F4C704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7E9-1691-4D79-8243-A259636D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4745-E4AE-415B-949B-6544CD4A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E1C79-15D5-49CF-AEC8-FE884FD9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F1589-0865-4F6B-ABD7-E456BF47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93D81-5561-4906-86EA-EBE8EC71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43C31-05A8-49BA-B776-16204AB6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EF323-1684-481C-9B29-59BA3336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D9916-EA21-4681-BA8B-875E02C8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4963C-1762-47D6-839A-FF2D09AB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47D64-5BEE-472C-A173-A48079CC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B2B28-8435-4E05-B0AE-364141C4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E53-CD62-44B2-AC18-E4A1B6F5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52092-5BF9-48B4-B856-3557A757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D6BC1-3D42-4EC3-BAD9-5133349A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3E4A1-C930-46CF-A2BE-EEF012B7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3CF49-B856-4CB4-BE87-BD5688D8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022AC-25F8-44AC-82F1-7B50F5D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8F2E7-E77F-4783-9667-1B21486D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BFF26-6779-4555-B8E0-7254C4A7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6F303-4045-4E60-8C84-157F9912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8AC26-A1C6-4534-BCF5-3FD6A477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5A622-7B3F-481A-B5D2-928494B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F72-C14E-43CC-989A-C8E2456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DA74-A7A6-4316-B143-C82A973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A8468-AFE0-4915-8784-9A3F88CE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0298-F377-4CB3-943B-800DA190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3D410-A5CE-4DD2-A1F6-5F4C2BC4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D2AEE-0946-4529-BA4B-656E4595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E3F20-C126-4D40-BE43-D28F647A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BD2C3-A44C-4B2B-9742-EE40B2A3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7E330-8058-4836-8515-39DCD10A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4779A-EF70-4B37-9FF6-AD4C7488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DB7E2-561A-4FA3-BD6B-8D7B0F6F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66C-3571-4E6A-B952-175D87E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03756-F641-46AB-A39D-E577219A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36DD5-B9EA-4A0E-B880-68F80E2B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8D31B-A9F9-4177-AE0C-117A3CD6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9D200-59F4-4269-8925-536AD5DC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ECE6B-77AD-4AF5-892F-2D1264A4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4D6-E257-4762-9393-C7D069BA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BA2A-5275-4D0C-BEAE-EFC36BCACB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22CB-1BC6-497F-B318-90AF9D6B741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144C-348F-4188-8C53-84012ED2AB0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5827-443C-4586-B22C-2D6299F50A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F30-8B18-4DEE-814D-DADA400BDDF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DE52-00DF-4655-B36D-18CE91A1F29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777-697A-476E-9508-CB6F3B2E94A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785520"/>
            <a:ext cx="74073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Data Structures and Algorithms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99760" y="2857680"/>
            <a:ext cx="612468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Lecture 12 (Queu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Instructor:   Quratula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Date:  22 October,  200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0e04"/>
                </a:solidFill>
                <a:latin typeface="Gill Sans MT"/>
              </a:rPr>
              <a:t>Faculty of Computer Science, IB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72920"/>
            <a:ext cx="77486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return store[front++]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421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 that allows G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1426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// …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Object data = store[front];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get front data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set pointer to null, so it can be garbage-collected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later (when caller code doesn’t let’s go of pointer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8dc765"/>
                </a:solidFill>
                <a:latin typeface="Courier New"/>
              </a:rPr>
              <a:t>store[front] = nul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ront++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return data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445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ircular Arra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ppose many enqueue operations followed by many dequeue oper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ult:  rear approaches MAX but the queue is not really fu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lution:  Circular Arr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 rear (and front) to “wrap around” the array (if rear = MAX-1, incrementing rear means resetting it to 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ternativ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ternative ways of visualiz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yclic array (length 8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209680" cy="19843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609480" y="5029200"/>
            <a:ext cx="80010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pty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turn (queue_of_front == queue_of_rea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move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empty(queu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(“underflow); exi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queue_of_front == max-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of_front =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queue_of_front)++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urn (queue_items[queue_of_front]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ert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(queue_of_rear == max-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of_rear=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queue_of_rear)++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queue_of_rear ==queue_of_fron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(“queue overflow”);  (queue_of_rear)--; exit; 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items[queue_of_rear]=x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ircular Array, continu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s the array full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ple answer: when (rear == fron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blem:  this is the same condition as emp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ution: Reserve a s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ll: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( (rear+1) % MAX == front)   (one free slot lef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mpty: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en ( rear == front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“wastes” a s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ternative: have a boolean field called hasEl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ll:  when ( hasElements &amp;&amp; (rear == front)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not really bet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asElements takes up extra space to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lso, need to take care of hasElements in enqueue and dequeu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vised En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enqueue( Object o 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(rear + 1) % MAX != front 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[rear] = o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r = (rear + 1) % MAX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vised De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294920"/>
            <a:ext cx="7964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Object data = store[front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[front] = nul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nt = (front + 1) % MAX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data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47920" y="1219320"/>
            <a:ext cx="7238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queue is a first-in-first-out (FIFO) sequential data structure in which elements are added (enqueued) at one end (the back) and elements are removed (dequeued) at the other end (the front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 good example is a queue. We encounter queues all the time in every day lif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hat makes a queue a queue? What is the essence of queueness?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21337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>
            <a:off x="28195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3505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40384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048120" y="3733920"/>
            <a:ext cx="3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2362320" y="3733920"/>
            <a:ext cx="3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160020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6"/>
          <p:cNvSpPr/>
          <p:nvPr/>
        </p:nvSpPr>
        <p:spPr>
          <a:xfrm>
            <a:off x="1600200" y="4114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133720" y="32767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2895480" y="32767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Using the 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 q = new ArrayQue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the following should be enclosed in a try-catch stm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5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2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 = ((Integer)q.dequeue()).intVal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3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 = ((Integer)q.dequeue()).intVal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 result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inked List Implement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ObjectNode Cla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29920" y="1599840"/>
            <a:ext cx="808020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ObjectNod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 data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Node nex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Data( Object o ) { data = o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getData() { return data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Next( ObjectNode p ) { next = p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Node getNext() { return next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9"/>
          <p:cNvSpPr/>
          <p:nvPr/>
        </p:nvSpPr>
        <p:spPr>
          <a:xfrm>
            <a:off x="6781680" y="2743200"/>
            <a:ext cx="533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0"/>
          <p:cNvSpPr/>
          <p:nvPr/>
        </p:nvSpPr>
        <p:spPr>
          <a:xfrm flipV="1">
            <a:off x="7848720" y="304776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7391520" y="2438280"/>
            <a:ext cx="1523880" cy="5335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2"/>
          <p:cNvSpPr/>
          <p:nvPr/>
        </p:nvSpPr>
        <p:spPr>
          <a:xfrm>
            <a:off x="8229600" y="2438280"/>
            <a:ext cx="0" cy="533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8214120" y="2452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4"/>
          <p:cNvSpPr/>
          <p:nvPr/>
        </p:nvSpPr>
        <p:spPr>
          <a:xfrm>
            <a:off x="7696080" y="36576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5"/>
          <p:cNvSpPr/>
          <p:nvPr/>
        </p:nvSpPr>
        <p:spPr>
          <a:xfrm flipV="1">
            <a:off x="7696080" y="365724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6"/>
          <p:cNvSpPr/>
          <p:nvPr/>
        </p:nvSpPr>
        <p:spPr>
          <a:xfrm>
            <a:off x="6705720" y="304812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7"/>
          <p:cNvSpPr/>
          <p:nvPr/>
        </p:nvSpPr>
        <p:spPr>
          <a:xfrm flipV="1">
            <a:off x="6705720" y="304776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8"/>
          <p:cNvSpPr/>
          <p:nvPr/>
        </p:nvSpPr>
        <p:spPr>
          <a:xfrm>
            <a:off x="7315200" y="1295280"/>
            <a:ext cx="990720" cy="457200"/>
          </a:xfrm>
          <a:prstGeom prst="ellipse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9"/>
          <p:cNvSpPr/>
          <p:nvPr/>
        </p:nvSpPr>
        <p:spPr>
          <a:xfrm flipV="1">
            <a:off x="7848720" y="190476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9"/>
          <p:cNvSpPr/>
          <p:nvPr/>
        </p:nvSpPr>
        <p:spPr>
          <a:xfrm>
            <a:off x="1295280" y="312408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30"/>
          <p:cNvSpPr/>
          <p:nvPr/>
        </p:nvSpPr>
        <p:spPr>
          <a:xfrm flipV="1">
            <a:off x="1295280" y="312372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1"/>
          <p:cNvSpPr/>
          <p:nvPr/>
        </p:nvSpPr>
        <p:spPr>
          <a:xfrm>
            <a:off x="1371600" y="2743200"/>
            <a:ext cx="205740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2"/>
          <p:cNvSpPr/>
          <p:nvPr/>
        </p:nvSpPr>
        <p:spPr>
          <a:xfrm>
            <a:off x="1215720" y="579132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 flipV="1">
            <a:off x="2133720" y="5257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LinkedQueue Cla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LinkedQueue implements Que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Node fron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Node rear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LinkedQueue(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nt = rear = nul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other Queue metho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ue Concept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6705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Queue applications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 serv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print job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k driv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disk input/output reques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heduler (e.g., in an operating system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processes awaiting a slice of machine ti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eration on Queue using arra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se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pt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rst-in, First-out (FIFO) 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sert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insert element at re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elete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remove &amp; return front el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check if the queue has no el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mple u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ling requests and reserv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Array Implementation of Queu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294920"/>
            <a:ext cx="84978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Object array and two integ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fron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dex of first element in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a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dex of first FREE element in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2073240" y="417672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26067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31399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67344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42069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47401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67215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72547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030280" y="41911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3"/>
          <p:cNvSpPr/>
          <p:nvPr/>
        </p:nvSpPr>
        <p:spPr>
          <a:xfrm>
            <a:off x="1920960" y="52434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4"/>
          <p:cNvSpPr/>
          <p:nvPr/>
        </p:nvSpPr>
        <p:spPr>
          <a:xfrm>
            <a:off x="2530440" y="562464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139920" y="52434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6"/>
          <p:cNvSpPr/>
          <p:nvPr/>
        </p:nvSpPr>
        <p:spPr>
          <a:xfrm>
            <a:off x="3673440" y="562464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2301840" y="448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2911320" y="44816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3444840" y="4481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3978360" y="448164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1463760" y="35672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1371240" y="320040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4146480" y="347652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4115160" y="3124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1585440" y="351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4252320" y="34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7"/>
          <p:cNvSpPr/>
          <p:nvPr/>
        </p:nvSpPr>
        <p:spPr>
          <a:xfrm>
            <a:off x="1828800" y="38862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8"/>
          <p:cNvSpPr/>
          <p:nvPr/>
        </p:nvSpPr>
        <p:spPr>
          <a:xfrm>
            <a:off x="44197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rray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store[]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front, rear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 final int MAX = 100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ArrayQueue(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ore = new Object[MAX]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rear = 0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Check for Empty and Enqueu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17240" y="1335240"/>
            <a:ext cx="849780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// 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boolean empty(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// queue is empty if first element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s the same as the first free eleme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( front == rear 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void enqueue( Object o 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// put data in first free slo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move rear index to next slo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rear &lt; MAX 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ore[rear++] = o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397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3:00:41Z</dcterms:created>
  <dc:creator>Admin</dc:creator>
  <dc:description/>
  <dc:language>en-US</dc:language>
  <cp:lastModifiedBy>qrajput</cp:lastModifiedBy>
  <dcterms:modified xsi:type="dcterms:W3CDTF">2009-10-22T11:09:44Z</dcterms:modified>
  <cp:revision>10</cp:revision>
  <dc:subject/>
  <dc:title>Queues</dc:title>
</cp:coreProperties>
</file>